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B8B8-8C35-4B71-8DA2-3096743A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D90-F9D9-4FB2-A24F-077066C9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813-491B-465D-8C7D-A1226DB1C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1D6-DB2D-45B0-BE50-5CEE765F2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3288-F3D5-42E5-AE80-1E4B3B6F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C7E2-0A10-41EA-B12C-9DA1B103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42A-AA7F-48FF-AA0D-7F217014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500C-C31F-4D3F-A7F3-DCC5BA1D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BEE-E457-45E6-81C2-B163A992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2207-1034-4E38-9F4C-DFE8C82C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A0E9-8A5B-45C2-8E31-689DF7AA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369E-9E68-46B4-A0EB-02D41FEA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36F91-9432-4466-A209-5A7F82AB6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8120" y="27194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3:54:07Z</dcterms:created>
  <dc:creator>Virginia Beach City Public Schools</dc:creator>
  <dc:description/>
  <dc:language>en-US</dc:language>
  <cp:lastModifiedBy>Virginia Beach City Public Schools</cp:lastModifiedBy>
  <dcterms:modified xsi:type="dcterms:W3CDTF">2008-06-03T13:54:15Z</dcterms:modified>
  <cp:revision>1</cp:revision>
  <dc:subject/>
  <dc:title>Slide 1</dc:title>
</cp:coreProperties>
</file>